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5.jpeg" ContentType="image/jpeg"/>
  <Override PartName="/ppt/media/image7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9A5A-C0FC-40B5-A5B8-D3252E29B3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EF60-E5C2-44CA-AB11-F3D82B114A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EA73-C48C-4074-ADCF-B2E43D4F6E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C92C-B8A9-4FC1-9A21-300725F05D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71E5-D812-44CD-AFB4-6D65519A3C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74FF-CCBB-4017-BE69-5ECC3944EA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E26A-4555-4003-A907-0F8325E34A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0097-8E96-4CAD-B78F-6D2847CB13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9C14-E8EC-4D81-AF94-99579FE6FA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EDEC-309E-4BF7-898A-FA0CEF5D43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3158-0D5D-475F-B1C8-327EDCDE88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3B2A-5706-4D07-A707-1244015045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85B9-D394-4DF2-BD1D-A7A850C05A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C66F-8E8A-486D-B40E-16B52111DF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9A31-6EA9-4E0F-85AC-B12F4D95CA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D620-ADFF-42A2-90B2-2FBDE02F38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38CE-A49F-4052-B711-2FC3FB3113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3898-CEC3-455E-B593-3AABD35390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2159-C989-4844-9098-98DE02220F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2718-1583-4F10-A08D-C2C3A702AD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C9E9-662A-4F91-B32F-B5A4E30484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AABC-1B80-4C62-93BE-E8EA8BDEED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2800-9E9A-4D0E-9F38-2A1A5FD923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785F-EA67-4835-BB9C-F1CAB75C55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67E8-ABDF-459D-9111-7B5AE020EC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F1CD-A6C3-426B-A475-C7D8A789BE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98A7-7B09-444D-ADD7-02A7AE67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68AE-9B46-4912-A385-AC593BE9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A1F1-C150-4422-BD26-DDFD37EF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DE43-1863-4974-A343-0F2E8E10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BBE5-2EA6-4713-9A9F-5BB696BA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7F96-C4D2-4380-82BF-34337527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1E26-6F83-456E-AC7F-A771A14D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BE38-7B17-4452-9796-56201DA3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F134-BE5A-467F-BC72-7E54E639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EA1D-B20D-483A-8F19-F7C6CC6B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526F-4D28-479F-BE87-589CCAA4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556C-5A38-483E-9D33-D28E701B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7CC8-B230-475F-8D41-2947A1BCF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ostmortemstudiorental.com/images/Corpses/skeleton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arresstheatre.com/sitebuildercontent/sitebuilderpictures/.pond/DramaMasks1.JPG.w240h166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library.thinkquest.org/TQ0313236/images/SL00712_.gif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athsmania.com.au/images/symbols.gif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athsmania.com.au/images/symbols.gif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library.thinkquest.org/TQ0313236/images/SL00712_.gif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3.jpeg"/><Relationship Id="rId6" Type="http://schemas.openxmlformats.org/officeDocument/2006/relationships/hyperlink" Target="http://www.darresstheatre.com/sitebuildercontent/sitebuilderpictures/.pond/DramaMasks1.JPG.w240h166.jpg" TargetMode="External"/><Relationship Id="rId7" Type="http://schemas.openxmlformats.org/officeDocument/2006/relationships/image" Target="../media/image11.jpeg"/><Relationship Id="rId8" Type="http://schemas.openxmlformats.org/officeDocument/2006/relationships/image" Target="../media/image9.jpeg"/><Relationship Id="rId9" Type="http://schemas.openxmlformats.org/officeDocument/2006/relationships/image" Target="../media/image8.jpeg"/><Relationship Id="rId10" Type="http://schemas.openxmlformats.org/officeDocument/2006/relationships/image" Target="../media/image4.jpeg"/><Relationship Id="rId11" Type="http://schemas.openxmlformats.org/officeDocument/2006/relationships/image" Target="../media/image2.jpeg"/><Relationship Id="rId12" Type="http://schemas.openxmlformats.org/officeDocument/2006/relationships/image" Target="../media/image3.jpeg"/><Relationship Id="rId13" Type="http://schemas.openxmlformats.org/officeDocument/2006/relationships/image" Target="../media/image12.jpeg"/><Relationship Id="rId14" Type="http://schemas.openxmlformats.org/officeDocument/2006/relationships/hyperlink" Target="http://www.postmortemstudiorental.com/images/Corpses/skeleton.jpg" TargetMode="External"/><Relationship Id="rId15" Type="http://schemas.openxmlformats.org/officeDocument/2006/relationships/image" Target="../media/image10.jpeg"/><Relationship Id="rId16" Type="http://schemas.openxmlformats.org/officeDocument/2006/relationships/hyperlink" Target="http://www.mopocket.com/graphics/religious%20symbols.JPG" TargetMode="External"/><Relationship Id="rId17" Type="http://schemas.openxmlformats.org/officeDocument/2006/relationships/image" Target="../media/image6.jpeg"/><Relationship Id="rId18" Type="http://schemas.openxmlformats.org/officeDocument/2006/relationships/hyperlink" Target="http://www.easyfunschool.com/images/EFShistory1.jpg" TargetMode="External"/><Relationship Id="rId19" Type="http://schemas.openxmlformats.org/officeDocument/2006/relationships/image" Target="../media/image5.jpeg"/><Relationship Id="rId20" Type="http://schemas.openxmlformats.org/officeDocument/2006/relationships/image" Target="../media/image1.jpeg"/><Relationship Id="rId21" Type="http://schemas.openxmlformats.org/officeDocument/2006/relationships/image" Target="../media/image7.gif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mathsmania.com.au/images/symbols.gif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library.thinkquest.org/TQ0313236/images/SL00712_.gif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3.jpeg"/><Relationship Id="rId6" Type="http://schemas.openxmlformats.org/officeDocument/2006/relationships/hyperlink" Target="http://www.darresstheatre.com/sitebuildercontent/sitebuilderpictures/.pond/DramaMasks1.JPG.w240h166.jpg" TargetMode="External"/><Relationship Id="rId7" Type="http://schemas.openxmlformats.org/officeDocument/2006/relationships/image" Target="../media/image11.jpeg"/><Relationship Id="rId8" Type="http://schemas.openxmlformats.org/officeDocument/2006/relationships/image" Target="../media/image9.jpeg"/><Relationship Id="rId9" Type="http://schemas.openxmlformats.org/officeDocument/2006/relationships/image" Target="../media/image8.jpeg"/><Relationship Id="rId10" Type="http://schemas.openxmlformats.org/officeDocument/2006/relationships/image" Target="../media/image4.jpeg"/><Relationship Id="rId11" Type="http://schemas.openxmlformats.org/officeDocument/2006/relationships/image" Target="../media/image2.jpeg"/><Relationship Id="rId12" Type="http://schemas.openxmlformats.org/officeDocument/2006/relationships/image" Target="../media/image3.jpeg"/><Relationship Id="rId13" Type="http://schemas.openxmlformats.org/officeDocument/2006/relationships/hyperlink" Target="http://www.postmortemstudiorental.com/images/Corpses/skeleton.jpg" TargetMode="External"/><Relationship Id="rId14" Type="http://schemas.openxmlformats.org/officeDocument/2006/relationships/image" Target="../media/image10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athsmania.com.au/images/symbols.gif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athsmania.com.au/images/symbols.gif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library.thinkquest.org/TQ0313236/images/SL00712_.gif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3.jpeg"/><Relationship Id="rId6" Type="http://schemas.openxmlformats.org/officeDocument/2006/relationships/image" Target="../media/image11.jpeg"/><Relationship Id="rId7" Type="http://schemas.openxmlformats.org/officeDocument/2006/relationships/image" Target="../media/image9.jpeg"/><Relationship Id="rId8" Type="http://schemas.openxmlformats.org/officeDocument/2006/relationships/image" Target="../media/image8.jpeg"/><Relationship Id="rId9" Type="http://schemas.openxmlformats.org/officeDocument/2006/relationships/image" Target="../media/image4.jpeg"/><Relationship Id="rId10" Type="http://schemas.openxmlformats.org/officeDocument/2006/relationships/image" Target="../media/image2.jpeg"/><Relationship Id="rId11" Type="http://schemas.openxmlformats.org/officeDocument/2006/relationships/image" Target="../media/image3.jpeg"/><Relationship Id="rId12" Type="http://schemas.openxmlformats.org/officeDocument/2006/relationships/image" Target="../media/image12.jpeg"/><Relationship Id="rId13" Type="http://schemas.openxmlformats.org/officeDocument/2006/relationships/image" Target="../media/image10.jpeg"/><Relationship Id="rId14" Type="http://schemas.openxmlformats.org/officeDocument/2006/relationships/image" Target="../media/image6.jpeg"/><Relationship Id="rId15" Type="http://schemas.openxmlformats.org/officeDocument/2006/relationships/image" Target="../media/image5.jpeg"/><Relationship Id="rId16" Type="http://schemas.openxmlformats.org/officeDocument/2006/relationships/image" Target="../media/image1.jpeg"/><Relationship Id="rId17" Type="http://schemas.openxmlformats.org/officeDocument/2006/relationships/image" Target="../media/image7.gi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asyfunschool.com/images/EFShistory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opocket.com/graphics/religious%20symbols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50920" y="1557360"/>
            <a:ext cx="84978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learn 15 school subjec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play to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play brain gy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116000" y="4046400"/>
            <a:ext cx="729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geograf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í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globe_spinning_on_stacked_books_hg_clr.gif"/>
          <p:cNvPicPr/>
          <p:nvPr/>
        </p:nvPicPr>
        <p:blipFill>
          <a:blip r:embed="rId1"/>
          <a:stretch/>
        </p:blipFill>
        <p:spPr>
          <a:xfrm>
            <a:off x="2857680" y="571680"/>
            <a:ext cx="264312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11400" y="5049720"/>
            <a:ext cx="729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la f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ísic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einstein"/>
          <p:cNvPicPr/>
          <p:nvPr/>
        </p:nvPicPr>
        <p:blipFill>
          <a:blip r:embed="rId1"/>
          <a:stretch/>
        </p:blipFill>
        <p:spPr>
          <a:xfrm>
            <a:off x="1020600" y="1214280"/>
            <a:ext cx="710280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211400" y="5049720"/>
            <a:ext cx="729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la qu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ímic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hem10_instrumnts"/>
          <p:cNvPicPr/>
          <p:nvPr/>
        </p:nvPicPr>
        <p:blipFill>
          <a:blip r:embed="rId1"/>
          <a:stretch/>
        </p:blipFill>
        <p:spPr>
          <a:xfrm>
            <a:off x="826920" y="890640"/>
            <a:ext cx="739476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1211400" y="5049720"/>
            <a:ext cx="729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la biolog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í</a:t>
            </a: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skelet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22800" y="297000"/>
            <a:ext cx="281772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47760" y="5049720"/>
            <a:ext cx="8161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la dram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átic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DramaMasks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5040" y="674640"/>
            <a:ext cx="768204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47760" y="5049720"/>
            <a:ext cx="8161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la m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úsic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MusicNotes.JPG"/>
          <p:cNvPicPr/>
          <p:nvPr/>
        </p:nvPicPr>
        <p:blipFill>
          <a:blip r:embed="rId1"/>
          <a:stretch/>
        </p:blipFill>
        <p:spPr>
          <a:xfrm>
            <a:off x="539640" y="890640"/>
            <a:ext cx="79930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539640" y="4670280"/>
            <a:ext cx="7932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la inform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átic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ict08healthsafety"/>
          <p:cNvPicPr/>
          <p:nvPr/>
        </p:nvPicPr>
        <p:blipFill>
          <a:blip r:embed="rId1"/>
          <a:stretch/>
        </p:blipFill>
        <p:spPr>
          <a:xfrm>
            <a:off x="826920" y="1160640"/>
            <a:ext cx="7682040" cy="36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116000" y="4046400"/>
            <a:ext cx="7297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la educaci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ón físic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SL00712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08240" y="716040"/>
            <a:ext cx="641484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47760" y="4726080"/>
            <a:ext cx="850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las matem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átic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symbo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155600"/>
            <a:ext cx="70772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6" descr="symbo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765000"/>
            <a:ext cx="1873440" cy="801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9" descr="SL00712_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765000"/>
            <a:ext cx="1463760" cy="722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0" descr="ict08healthsafety"/>
          <p:cNvPicPr/>
          <p:nvPr/>
        </p:nvPicPr>
        <p:blipFill>
          <a:blip r:embed="rId5"/>
          <a:stretch/>
        </p:blipFill>
        <p:spPr>
          <a:xfrm>
            <a:off x="4859280" y="692280"/>
            <a:ext cx="1657440" cy="784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1" descr="DramaMasks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5280" y="1916280"/>
            <a:ext cx="1776600" cy="787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2" descr="chem10_instrumnts"/>
          <p:cNvPicPr/>
          <p:nvPr/>
        </p:nvPicPr>
        <p:blipFill>
          <a:blip r:embed="rId8"/>
          <a:stretch/>
        </p:blipFill>
        <p:spPr>
          <a:xfrm>
            <a:off x="2627280" y="1844640"/>
            <a:ext cx="1657440" cy="820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3" descr="einstein"/>
          <p:cNvPicPr/>
          <p:nvPr/>
        </p:nvPicPr>
        <p:blipFill>
          <a:blip r:embed="rId9"/>
          <a:stretch/>
        </p:blipFill>
        <p:spPr>
          <a:xfrm>
            <a:off x="6877080" y="765000"/>
            <a:ext cx="1606680" cy="723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4" descr="04kennedy"/>
          <p:cNvPicPr/>
          <p:nvPr/>
        </p:nvPicPr>
        <p:blipFill>
          <a:blip r:embed="rId10"/>
          <a:stretch/>
        </p:blipFill>
        <p:spPr>
          <a:xfrm>
            <a:off x="6804000" y="1989000"/>
            <a:ext cx="1943280" cy="752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5" descr="shakespeare_acting_hg_wht_17749"/>
          <p:cNvPicPr/>
          <p:nvPr/>
        </p:nvPicPr>
        <p:blipFill>
          <a:blip r:embed="rId11"/>
          <a:stretch/>
        </p:blipFill>
        <p:spPr>
          <a:xfrm>
            <a:off x="4643280" y="1844640"/>
            <a:ext cx="1824120" cy="895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7" descr="French-flag"/>
          <p:cNvPicPr/>
          <p:nvPr/>
        </p:nvPicPr>
        <p:blipFill>
          <a:blip r:embed="rId12"/>
          <a:stretch/>
        </p:blipFill>
        <p:spPr>
          <a:xfrm>
            <a:off x="1214280" y="3000240"/>
            <a:ext cx="2065320" cy="771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8" descr="MusicNotes.JPG"/>
          <p:cNvPicPr/>
          <p:nvPr/>
        </p:nvPicPr>
        <p:blipFill>
          <a:blip r:embed="rId13"/>
          <a:stretch/>
        </p:blipFill>
        <p:spPr>
          <a:xfrm>
            <a:off x="4000680" y="3000240"/>
            <a:ext cx="2016000" cy="849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9" descr="skeleton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164360" y="2997360"/>
            <a:ext cx="898560" cy="1500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0" descr="religious%2520symbols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395280" y="4076640"/>
            <a:ext cx="2038320" cy="898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1" descr="EFShistory1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2268360" y="3933720"/>
            <a:ext cx="2303640" cy="1148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2" descr="1600367-Spanish_flag-Spain"/>
          <p:cNvPicPr/>
          <p:nvPr/>
        </p:nvPicPr>
        <p:blipFill>
          <a:blip r:embed="rId20"/>
          <a:stretch/>
        </p:blipFill>
        <p:spPr>
          <a:xfrm>
            <a:off x="4356000" y="4005360"/>
            <a:ext cx="2255760" cy="1081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globe_spinning_on_stacked_books_hg_clr.gif"/>
          <p:cNvPicPr/>
          <p:nvPr/>
        </p:nvPicPr>
        <p:blipFill>
          <a:blip r:embed="rId21"/>
          <a:stretch/>
        </p:blipFill>
        <p:spPr>
          <a:xfrm>
            <a:off x="7891560" y="3786120"/>
            <a:ext cx="12524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39640" y="2349360"/>
          <a:ext cx="8209080" cy="319104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asignatu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19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4960800" y="22860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846000" y="22860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789280" y="2286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30320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24648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5418000" y="343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os m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195640" y="234936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160880" y="127008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140360" y="2421000"/>
            <a:ext cx="457200" cy="571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2217600" y="1270080"/>
            <a:ext cx="457200" cy="57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2195640" y="450864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2195640" y="34290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4211640" y="458136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4140360" y="350028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6" descr="symbo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1125360"/>
            <a:ext cx="1873080" cy="8017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7"/>
          <p:cNvSpPr/>
          <p:nvPr/>
        </p:nvSpPr>
        <p:spPr>
          <a:xfrm>
            <a:off x="4211640" y="530064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2195640" y="530064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9" descr="SL00712_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125360"/>
            <a:ext cx="1463760" cy="722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0" descr="ict08healthsafety"/>
          <p:cNvPicPr/>
          <p:nvPr/>
        </p:nvPicPr>
        <p:blipFill>
          <a:blip r:embed="rId5"/>
          <a:stretch/>
        </p:blipFill>
        <p:spPr>
          <a:xfrm>
            <a:off x="4932360" y="2205000"/>
            <a:ext cx="1657440" cy="784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1" descr="DramaMasks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4000" y="2205000"/>
            <a:ext cx="1776240" cy="787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2" descr="chem10_instrumnts"/>
          <p:cNvPicPr/>
          <p:nvPr/>
        </p:nvPicPr>
        <p:blipFill>
          <a:blip r:embed="rId8"/>
          <a:stretch/>
        </p:blipFill>
        <p:spPr>
          <a:xfrm>
            <a:off x="468360" y="3284640"/>
            <a:ext cx="1657440" cy="820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einstein"/>
          <p:cNvPicPr/>
          <p:nvPr/>
        </p:nvPicPr>
        <p:blipFill>
          <a:blip r:embed="rId9"/>
          <a:stretch/>
        </p:blipFill>
        <p:spPr>
          <a:xfrm>
            <a:off x="5003640" y="3357720"/>
            <a:ext cx="1606680" cy="723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4" descr="04kennedy"/>
          <p:cNvPicPr/>
          <p:nvPr/>
        </p:nvPicPr>
        <p:blipFill>
          <a:blip r:embed="rId10"/>
          <a:stretch/>
        </p:blipFill>
        <p:spPr>
          <a:xfrm>
            <a:off x="5003640" y="4365720"/>
            <a:ext cx="1943280" cy="752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5" descr="shakespeare_acting_hg_wht_17749"/>
          <p:cNvPicPr/>
          <p:nvPr/>
        </p:nvPicPr>
        <p:blipFill>
          <a:blip r:embed="rId11"/>
          <a:stretch/>
        </p:blipFill>
        <p:spPr>
          <a:xfrm>
            <a:off x="324000" y="4292640"/>
            <a:ext cx="1823760" cy="895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7" descr="French-flag"/>
          <p:cNvPicPr/>
          <p:nvPr/>
        </p:nvPicPr>
        <p:blipFill>
          <a:blip r:embed="rId12"/>
          <a:stretch/>
        </p:blipFill>
        <p:spPr>
          <a:xfrm>
            <a:off x="4932360" y="5229360"/>
            <a:ext cx="2065320" cy="771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9" descr="skeleton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071720" y="5286240"/>
            <a:ext cx="6429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symbo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7429680" y="998640"/>
            <a:ext cx="7075800" cy="3030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MusicNotes.JPG"/>
          <p:cNvPicPr/>
          <p:nvPr/>
        </p:nvPicPr>
        <p:blipFill>
          <a:blip r:embed="rId3"/>
          <a:stretch/>
        </p:blipFill>
        <p:spPr>
          <a:xfrm>
            <a:off x="9564840" y="3486240"/>
            <a:ext cx="7993080" cy="3371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ict08healthsafety"/>
          <p:cNvPicPr/>
          <p:nvPr/>
        </p:nvPicPr>
        <p:blipFill>
          <a:blip r:embed="rId4"/>
          <a:stretch/>
        </p:blipFill>
        <p:spPr>
          <a:xfrm>
            <a:off x="-8101080" y="-998640"/>
            <a:ext cx="7682040" cy="3632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1600367-Spanish_flag-Spain"/>
          <p:cNvPicPr/>
          <p:nvPr/>
        </p:nvPicPr>
        <p:blipFill>
          <a:blip r:embed="rId5"/>
          <a:stretch/>
        </p:blipFill>
        <p:spPr>
          <a:xfrm>
            <a:off x="9755280" y="1432080"/>
            <a:ext cx="68166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24 3.61111E-006 C 0.26481 -0.10417 0.53032 -0.20816 0.69698 -0.16337 C 0.86365 -0.11858 1.15671 0.15035 0.99953 0.26927 C 0.84235 0.38819 -0.03288 0.51476 -0.24653 0.55 C -0.46019 0.58524 -0.37153 0.53299 -0.28265 0.48073 E">
                                      <p:cBhvr>
                                        <p:cTn id="20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9259E-006 -3.05556E-006 C -0.37338 0.09358 -0.74675 0.18715 -0.87963 0.13073 C -1.0125 0.07431 -0.78032 -0.24392 -0.79745 -0.33837 C -0.81458 -0.43281 -1.17013 -0.39028 -0.98217 -0.43646 C -0.79421 -0.48264 -0.23171 -0.54913 0.33079 -0.61545 E">
                                      <p:cBhvr>
                                        <p:cTn id="24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8218 -0.02066 C 0.82569 0.17587 0.96944 0.37239 1.21805 0.40434 C 1.46667 0.43628 1.8206 0.30382 2.17454 0.17153 E">
                                      <p:cBhvr>
                                        <p:cTn id="2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759 0.00365 C -0.70625 -0.22153 -1.09467 -0.4467 -1.17407 -0.40017 C -1.25347 -0.35364 -0.66041 0.17934 -0.79467 0.28247 C -0.92893 0.38559 -1.45416 0.30226 -1.97916 0.2191 E">
                                      <p:cBhvr>
                                        <p:cTn id="32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00040" y="571320"/>
            <a:ext cx="8229600" cy="414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¿Cuál es tu asignatura favori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 asignatura favorita 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oy de acuerd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a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estoy de acuerd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don’t a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co buenas notas en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co malas notas en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writing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539640" y="2349360"/>
          <a:ext cx="8209080" cy="319104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asignatu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Text Box 25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6" descr="symbo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765000"/>
            <a:ext cx="1873440" cy="801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SL00712_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765000"/>
            <a:ext cx="1463760" cy="722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ict08healthsafety"/>
          <p:cNvPicPr/>
          <p:nvPr/>
        </p:nvPicPr>
        <p:blipFill>
          <a:blip r:embed="rId5"/>
          <a:stretch/>
        </p:blipFill>
        <p:spPr>
          <a:xfrm>
            <a:off x="4859280" y="692280"/>
            <a:ext cx="1657440" cy="784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1" descr="DramaMasks1"/>
          <p:cNvPicPr/>
          <p:nvPr/>
        </p:nvPicPr>
        <p:blipFill>
          <a:blip r:embed="rId6"/>
          <a:stretch/>
        </p:blipFill>
        <p:spPr>
          <a:xfrm>
            <a:off x="395280" y="1916280"/>
            <a:ext cx="1776600" cy="787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2" descr="chem10_instrumnts"/>
          <p:cNvPicPr/>
          <p:nvPr/>
        </p:nvPicPr>
        <p:blipFill>
          <a:blip r:embed="rId7"/>
          <a:stretch/>
        </p:blipFill>
        <p:spPr>
          <a:xfrm>
            <a:off x="2627280" y="1844640"/>
            <a:ext cx="1657440" cy="820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3" descr="einstein"/>
          <p:cNvPicPr/>
          <p:nvPr/>
        </p:nvPicPr>
        <p:blipFill>
          <a:blip r:embed="rId8"/>
          <a:stretch/>
        </p:blipFill>
        <p:spPr>
          <a:xfrm>
            <a:off x="6877080" y="765000"/>
            <a:ext cx="1606680" cy="723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4" descr="04kennedy"/>
          <p:cNvPicPr/>
          <p:nvPr/>
        </p:nvPicPr>
        <p:blipFill>
          <a:blip r:embed="rId9"/>
          <a:stretch/>
        </p:blipFill>
        <p:spPr>
          <a:xfrm>
            <a:off x="6804000" y="1989000"/>
            <a:ext cx="1943280" cy="752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5" descr="shakespeare_acting_hg_wht_17749"/>
          <p:cNvPicPr/>
          <p:nvPr/>
        </p:nvPicPr>
        <p:blipFill>
          <a:blip r:embed="rId10"/>
          <a:stretch/>
        </p:blipFill>
        <p:spPr>
          <a:xfrm>
            <a:off x="4643280" y="1844640"/>
            <a:ext cx="1824120" cy="895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7" descr="French-flag"/>
          <p:cNvPicPr/>
          <p:nvPr/>
        </p:nvPicPr>
        <p:blipFill>
          <a:blip r:embed="rId11"/>
          <a:stretch/>
        </p:blipFill>
        <p:spPr>
          <a:xfrm>
            <a:off x="1214280" y="3000240"/>
            <a:ext cx="2065320" cy="771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8" descr="MusicNotes.JPG"/>
          <p:cNvPicPr/>
          <p:nvPr/>
        </p:nvPicPr>
        <p:blipFill>
          <a:blip r:embed="rId12"/>
          <a:stretch/>
        </p:blipFill>
        <p:spPr>
          <a:xfrm>
            <a:off x="4000680" y="3000240"/>
            <a:ext cx="2016000" cy="849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9" descr="skeleton"/>
          <p:cNvPicPr/>
          <p:nvPr/>
        </p:nvPicPr>
        <p:blipFill>
          <a:blip r:embed="rId13"/>
          <a:stretch/>
        </p:blipFill>
        <p:spPr>
          <a:xfrm>
            <a:off x="7164360" y="2997360"/>
            <a:ext cx="898560" cy="1500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0" descr="religious%2520symbols"/>
          <p:cNvPicPr/>
          <p:nvPr/>
        </p:nvPicPr>
        <p:blipFill>
          <a:blip r:embed="rId14"/>
          <a:stretch/>
        </p:blipFill>
        <p:spPr>
          <a:xfrm>
            <a:off x="395280" y="4076640"/>
            <a:ext cx="2038320" cy="898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1" descr="EFShistory1"/>
          <p:cNvPicPr/>
          <p:nvPr/>
        </p:nvPicPr>
        <p:blipFill>
          <a:blip r:embed="rId15"/>
          <a:stretch/>
        </p:blipFill>
        <p:spPr>
          <a:xfrm>
            <a:off x="2268360" y="3933720"/>
            <a:ext cx="2303640" cy="1148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2" descr="1600367-Spanish_flag-Spain"/>
          <p:cNvPicPr/>
          <p:nvPr/>
        </p:nvPicPr>
        <p:blipFill>
          <a:blip r:embed="rId16"/>
          <a:stretch/>
        </p:blipFill>
        <p:spPr>
          <a:xfrm>
            <a:off x="4356000" y="4005360"/>
            <a:ext cx="2255760" cy="1081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globe_spinning_on_stacked_books_hg_clr.gif"/>
          <p:cNvPicPr/>
          <p:nvPr/>
        </p:nvPicPr>
        <p:blipFill>
          <a:blip r:embed="rId17"/>
          <a:stretch/>
        </p:blipFill>
        <p:spPr>
          <a:xfrm>
            <a:off x="7891560" y="3786120"/>
            <a:ext cx="12524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Las asignatur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Comic Sans MS"/>
              </a:rPr>
              <a:t>The school subjec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600367-Spanish_flag-Spain"/>
          <p:cNvPicPr/>
          <p:nvPr/>
        </p:nvPicPr>
        <p:blipFill>
          <a:blip r:embed="rId1"/>
          <a:stretch/>
        </p:blipFill>
        <p:spPr>
          <a:xfrm>
            <a:off x="1308240" y="1376280"/>
            <a:ext cx="6815160" cy="32655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1211400" y="5049720"/>
            <a:ext cx="729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el espa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  <a:ea typeface="Arial"/>
              </a:rPr>
              <a:t>ño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1211400" y="5049720"/>
            <a:ext cx="729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el ingl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é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shakespeare_acting_hg_wht_17749"/>
          <p:cNvPicPr/>
          <p:nvPr/>
        </p:nvPicPr>
        <p:blipFill>
          <a:blip r:embed="rId1"/>
          <a:stretch/>
        </p:blipFill>
        <p:spPr>
          <a:xfrm>
            <a:off x="1308240" y="944640"/>
            <a:ext cx="624024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1211400" y="5049720"/>
            <a:ext cx="729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el franc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é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French-flag"/>
          <p:cNvPicPr/>
          <p:nvPr/>
        </p:nvPicPr>
        <p:blipFill>
          <a:blip r:embed="rId1"/>
          <a:stretch/>
        </p:blipFill>
        <p:spPr>
          <a:xfrm>
            <a:off x="922320" y="1432080"/>
            <a:ext cx="739476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684360" y="393372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el art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04kennedy"/>
          <p:cNvPicPr/>
          <p:nvPr/>
        </p:nvPicPr>
        <p:blipFill>
          <a:blip r:embed="rId1"/>
          <a:stretch/>
        </p:blipFill>
        <p:spPr>
          <a:xfrm>
            <a:off x="1116000" y="1160640"/>
            <a:ext cx="691200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211400" y="5049720"/>
            <a:ext cx="729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la histori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EFShistory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98640"/>
            <a:ext cx="91440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211400" y="5049720"/>
            <a:ext cx="729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la religi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ó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religious%2520symbo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20600" y="1160640"/>
            <a:ext cx="69422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14:57:28Z</dcterms:created>
  <dc:creator>Chris Fuller</dc:creator>
  <dc:description/>
  <dc:language>en-US</dc:language>
  <cp:lastModifiedBy>Chris</cp:lastModifiedBy>
  <dcterms:modified xsi:type="dcterms:W3CDTF">2009-05-06T08:53:34Z</dcterms:modified>
  <cp:revision>14</cp:revision>
  <dc:subject/>
  <dc:title>Slide 1</dc:title>
</cp:coreProperties>
</file>